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828-A57B-4DCA-AF1D-5CAC45AA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92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BE0-8019-4E13-94E4-C8D8850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381-1386-424B-A2B8-FFFD217A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40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4160" y="1066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40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4160" y="3892320"/>
            <a:ext cx="28339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5D3-C441-4C0B-ACB1-90203C3F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B5-0672-44EB-A17D-2F06F8C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34E-A821-41E9-B567-95E5C39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19C-ABD5-4819-A3BD-3271582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99D-B70C-4BD8-A3A6-7FBB027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B47-5594-4E87-B2C4-5F344B6C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DCD-ECE4-44D9-8B08-E73489A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892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12-201C-4328-8A96-AEA3244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066320"/>
            <a:ext cx="42948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92320"/>
            <a:ext cx="88012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DA5-FC1B-4C66-BECE-376E920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K.Cuthbertson, D.Nitzsch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D53620-8C12-4A5A-BDBB-505F1A64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19360"/>
          </a:xfrm>
          <a:prstGeom prst="rect">
            <a:avLst/>
          </a:prstGeom>
          <a:solidFill>
            <a:srgbClr val="000066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01280" cy="5410440"/>
          </a:xfrm>
          <a:prstGeom prst="rect">
            <a:avLst/>
          </a:prstGeom>
          <a:solidFill>
            <a:srgbClr val="000066"/>
          </a:solid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1066680" y="152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Version 11/9/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26720" y="1003320"/>
            <a:ext cx="37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Options 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A5F-06EC-4EA7-B305-D0B80E0FE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6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6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838080"/>
            <a:ext cx="80773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Buy ( “long”) European Call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ch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buying the underlying asset (stock) at a future date, at a (strike) price which is fix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~for this privilege you pay the ( call ) option premium \ price (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 the right, but not an oblig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urchase the (underlying) asset a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d future date(expiration \ expiry \ maturity da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ertain price ( strike \ exercise  pr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n an amount  ( contrac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fixed in adv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1320" y="176040"/>
            <a:ext cx="42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y European Call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C4D-3300-42EE-93E3-BFA8CFBB6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88480" y="-360"/>
            <a:ext cx="8255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1  Buy One European Call Option (‘Underlying’ asset = stock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138320"/>
            <a:ext cx="782316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1473120"/>
            <a:ext cx="0" cy="41911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4064040"/>
            <a:ext cx="510552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5054760"/>
            <a:ext cx="18288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581280" y="1701720"/>
            <a:ext cx="3353040" cy="3353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752120" y="4064040"/>
            <a:ext cx="762120" cy="0"/>
          </a:xfrm>
          <a:prstGeom prst="line">
            <a:avLst/>
          </a:prstGeom>
          <a:ln w="507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311560"/>
            <a:ext cx="4572000" cy="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311560"/>
            <a:ext cx="0" cy="175248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345456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K=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14036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8120" y="4140360"/>
            <a:ext cx="106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2360" y="4216320"/>
            <a:ext cx="992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 Rounded MT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5120" y="1015920"/>
            <a:ext cx="426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trike Price, K =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5240" y="2082960"/>
            <a:ext cx="144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3987720"/>
            <a:ext cx="16761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 Premium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1560" y="4826160"/>
            <a:ext cx="129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3987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505320" y="3911400"/>
            <a:ext cx="0" cy="11430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9040" y="1860480"/>
            <a:ext cx="189252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3760" y="2706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276876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153280" y="2158920"/>
            <a:ext cx="60984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23240" y="19303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5562720"/>
            <a:ext cx="769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Speculato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: Buys call if thinks S will rise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n the futur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above K=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Hedger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Pension fund wants to buy stock in the future and fears a                        rise in S.  Locks in a MAX price of K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2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2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B03-789D-420B-BD0F-98520EC4A2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6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990720"/>
            <a:ext cx="762012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ach call option contract is for delivery of 100 shares (but call premium is based on ‘one shar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If S</a:t>
            </a:r>
            <a:r>
              <a:rPr b="1" lang="en-GB" sz="2000" spc="-1" strike="noStrike" u="sng" baseline="-25000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 &gt; K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88 &gt; 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xercise the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“in-the-money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oss profit =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K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=   88 - 80 = $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t profit = 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K  - C = $8 - $3 = $5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net profit =  $500 per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(and ‘upside’ is 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If S</a:t>
            </a:r>
            <a:r>
              <a:rPr b="1" lang="en-GB" sz="2000" spc="-1" strike="noStrike" u="sng" baseline="-25000">
                <a:solidFill>
                  <a:srgbClr val="ffff00"/>
                </a:solidFill>
                <a:uFillTx/>
                <a:latin typeface="Arial"/>
              </a:rPr>
              <a:t>T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 &lt;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exercise the op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out-of-the-mon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ss = C (100) =  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ulators loss is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limited to $300 per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ie.e ‘insuranc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9520" y="176040"/>
            <a:ext cx="40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it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CD2-D445-4F04-BDEB-715E7C2D65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9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9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1455840"/>
            <a:ext cx="746784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PE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you only pay about  $3 to ‘gamble’ on the future stock price, which will have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urrent va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round $80, then options provide ‘leverage’ for a spe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‘downside’ is also limited to the call premium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87840" y="17604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: Payoff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7E0-8683-4977-B691-6F9D18A00B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990720"/>
            <a:ext cx="746784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HEDGER: Obtains INSURANC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stock price at maturity (T) is high (e.g.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88)  then the pension fund ‘exercises the option’ at the CBOT and pays only K=80 for the sto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f the stock price is low (e.g.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= 60) then the pension fund ‘walks away’ from the option contract (ie. does not exercise at K=80) and simply buys the stock in the spot market (e.g. NYSE) at 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nsion fund has ‘insured’ that the max. price it will pay is K=80 but it can take advantage of lower stock prices should these a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is ‘flexibility’ the pension fund pays the call premium of $3 (toda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87840" y="17604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: Payoff from Call at Exp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333-41EE-4BD8-B190-965F588AD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6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6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1371600"/>
            <a:ext cx="72388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ll ( = write ) European Call Op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quire an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obligatio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(underlying) asset  to the bu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uyer decides to exercise the option (and you are still holding a written ca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riter of the option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must deliv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f ‘the long’ decides to excercise the option at  expi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adoxically the writer of an option, does not have an ‘option/choice’ AT MATURITY, ( but before maturity the writer has the ‘option’ to  close out her position,  with another tra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1680" y="252360"/>
            <a:ext cx="53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e(Sell) European Call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A39-7FB1-4F6C-B80E-FBCF4C534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52480" y="1066680"/>
            <a:ext cx="0" cy="41911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14600" y="3657600"/>
            <a:ext cx="510552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752120" y="3657600"/>
            <a:ext cx="762120" cy="0"/>
          </a:xfrm>
          <a:prstGeom prst="line">
            <a:avLst/>
          </a:prstGeom>
          <a:ln w="507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36576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K=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373392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399360" y="3657600"/>
            <a:ext cx="11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42360" y="3809880"/>
            <a:ext cx="1068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 Rounded MT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5440" y="1143000"/>
            <a:ext cx="449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trike Price, K =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1560" y="2452680"/>
            <a:ext cx="13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2743200"/>
            <a:ext cx="22100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2743200"/>
            <a:ext cx="2590560" cy="2590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2819520"/>
            <a:ext cx="0" cy="9144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2438280"/>
            <a:ext cx="0" cy="12193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2120" y="2743200"/>
            <a:ext cx="17524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 Premium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00800" y="3733920"/>
            <a:ext cx="0" cy="137160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752480" y="5105520"/>
            <a:ext cx="4648320" cy="0"/>
          </a:xfrm>
          <a:prstGeom prst="line">
            <a:avLst/>
          </a:prstGeom>
          <a:ln w="507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88920" y="4800600"/>
            <a:ext cx="137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07280" y="1682640"/>
            <a:ext cx="189216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80240" y="17524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70960" y="21337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3800" y="2209680"/>
            <a:ext cx="60948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20968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562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r:  Has to pay an initial margin (e.g. 50% of current value of stocks, underlying the contract + the option prem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2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1066680" y="76212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960" y="203040"/>
            <a:ext cx="72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2  Sell( Write) a European Cal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395-549F-4C76-BA11-BDA0DD3AB4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90720" y="609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08B-552C-414F-B1CE-B948B2219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9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9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1066680" y="76212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1219320"/>
            <a:ext cx="69343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Buy ( Long) European Put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ave the choice of selling the underlying asset (stock) at a future date, at a (strike) price which is fixed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this privilege you p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( put ) option premium \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re the right, but not an oblig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ELL the (underlying) asset a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d future date(expiration \ expiry \ maturity da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ertain price ( strike \ exercise  pric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in an amount  ( contrac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fixed in adv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93240" y="252360"/>
            <a:ext cx="35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pean Put Op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D07-A1E7-4119-A5E2-9192BC501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1" name=""/>
          <p:cNvGraphicFramePr/>
          <p:nvPr/>
        </p:nvGraphicFramePr>
        <p:xfrm>
          <a:off x="914400" y="3581280"/>
          <a:ext cx="36576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36576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4686480" y="3581280"/>
          <a:ext cx="422892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6480" y="3581280"/>
                    <a:ext cx="4228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5943600" y="914400"/>
          <a:ext cx="243828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914400"/>
                    <a:ext cx="2438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9880" y="2523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y a Put  = Trial  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06960" y="16002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BUCK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BA0-94A3-4B90-901B-A966F7982D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5181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F29-73B0-4A8A-9C6B-598A7577A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 flipH="1">
            <a:off x="914040" y="1905120"/>
            <a:ext cx="6705720" cy="289548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066680" y="2286000"/>
            <a:ext cx="6553440" cy="274320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6324480" y="2971800"/>
          <a:ext cx="259092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971800"/>
                    <a:ext cx="259092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1436760" y="685800"/>
          <a:ext cx="3135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85800"/>
                    <a:ext cx="3135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8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8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1" name=""/>
          <p:cNvSpPr/>
          <p:nvPr/>
        </p:nvSpPr>
        <p:spPr>
          <a:xfrm>
            <a:off x="11430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69200" y="100080"/>
            <a:ext cx="47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ercise the Put = DIV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54880" y="4829040"/>
            <a:ext cx="24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BUCKSID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( Fi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495-6D93-4EE5-9062-919E82FA0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133720" y="762120"/>
            <a:ext cx="0" cy="144756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3429000"/>
            <a:ext cx="49528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67480" y="3429000"/>
            <a:ext cx="1371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2120" y="6094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2160360" y="1831680"/>
            <a:ext cx="3097080" cy="235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257800" y="4191120"/>
            <a:ext cx="1828800" cy="14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34290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3581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38480" y="358128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52480" y="32004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1981080" y="4191120"/>
            <a:ext cx="152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523880" y="39625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 Price K= $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2514240" y="3429000"/>
            <a:ext cx="30492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3200" y="365760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4400" y="35812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2209680" y="2362320"/>
            <a:ext cx="60984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819520" y="2361960"/>
            <a:ext cx="0" cy="10666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23880" y="21337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33520" y="3429000"/>
            <a:ext cx="0" cy="8380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33720" y="3429000"/>
            <a:ext cx="380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133720" y="2209320"/>
            <a:ext cx="0" cy="22860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33720" y="2514600"/>
            <a:ext cx="0" cy="2209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40240" y="1378080"/>
            <a:ext cx="1892520" cy="135864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0080" y="1752480"/>
            <a:ext cx="609840" cy="609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0760" y="1905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13560" y="16765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080" y="4800600"/>
            <a:ext cx="77724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ecul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Buys put if thinks S will FALL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edg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nsion fund ALREADY HOLDS STOCKS and  in the future, fears a  FALL in S.  Locks in a MIN PRICE of K, at which to sell the shares.  But if S does not fall blow K=70 , then ‘walks away’ and sells shares in the spot market (e.g. NYS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8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6560" y="127080"/>
            <a:ext cx="59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3   Buy (Long) : European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A1E-10F5-47EE-B6AE-7F756D9216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133720" y="1676520"/>
            <a:ext cx="0" cy="320040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8120" y="3809880"/>
            <a:ext cx="47242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3809880"/>
            <a:ext cx="1371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14400" y="14479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133720" y="3200400"/>
            <a:ext cx="3200400" cy="2590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5257800" y="3200400"/>
            <a:ext cx="1828800" cy="14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0" y="37339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334120" y="373392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38098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19720" y="380988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752480" y="35053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981080" y="4648320"/>
            <a:ext cx="152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434340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4952880"/>
            <a:ext cx="49528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price K= $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price at expiry,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81280" y="3657600"/>
            <a:ext cx="0" cy="1522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590560" y="3809880"/>
            <a:ext cx="53316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52680" y="380988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388620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Pre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209680" y="4648320"/>
            <a:ext cx="1371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581280" y="3809520"/>
            <a:ext cx="0" cy="83844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23880" y="281952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33520" y="2895120"/>
            <a:ext cx="0" cy="83844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133720" y="4876920"/>
            <a:ext cx="0" cy="12952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5334120"/>
            <a:ext cx="0" cy="9144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0" y="1371600"/>
            <a:ext cx="1892160" cy="135900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c400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52880" y="1905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800240" y="1676520"/>
            <a:ext cx="609480" cy="6094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410080" y="1676520"/>
            <a:ext cx="8384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60920" y="16002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16920" y="20304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gure 4  Sell( Write): European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6FD-B5BC-41AC-8C2C-8F15B502C2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11430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066680" y="1143000"/>
            <a:ext cx="6858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YING,   Calls and Puts allow you to ‘lock in’ a (strike) ‘price’ in the future, by paying the option premium to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‘price’ can be for a company stock, stock-index,T-bond, currency or an interest rate (e.g. to ‘insure’ the maximum cost of borrowing on a existing lo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may also choose to NOT EXERCISE the option, if it is better to do the deal in the ‘spot market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CULATION (‘LEVER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ll market - buy a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r market - buy a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69920" y="40464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E2E-A216-4F89-9324-1F1CAD35B2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66880" y="2514600"/>
            <a:ext cx="45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inancial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691-FA64-45A6-9793-D83BAFE727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2971800" y="156996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2207520" y="765360"/>
            <a:ext cx="842040" cy="923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276720" y="21178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134136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48120" y="278928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76920" y="396720"/>
            <a:ext cx="32763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ng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048120" y="1646280"/>
            <a:ext cx="12189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52680" y="12034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09680" y="287964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1752120" y="4465800"/>
            <a:ext cx="1295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124080" y="2179800"/>
            <a:ext cx="990720" cy="761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047760" y="3703680"/>
            <a:ext cx="990360" cy="7621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057400" y="3017880"/>
            <a:ext cx="990720" cy="7621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76720" y="3276720"/>
            <a:ext cx="609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09680" y="387036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11127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914400" y="4800600"/>
            <a:ext cx="82296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s of Put-Call Parity:    P  +  S  =  C  + Cash [= K/(1+r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:  Pension Fund hedging its stock holding when it fears a fall in stock prices (over the next 6 months) and wishes to temporarily establish a “floor value (=K) but also benefit from any stock price r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ee ‘Long Put’ abo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6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17640" y="12708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al Engineering: Synthetic Cal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A1F-9B66-47E3-8ECF-6E7844322F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14400" y="76320"/>
            <a:ext cx="790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al Engineering: Leeson’s Short Stradd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62720" y="685800"/>
            <a:ext cx="304776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ort (=sell)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ort(=sell)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q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hort Stra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8280" y="838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52680" y="115740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4080" y="1295280"/>
            <a:ext cx="106704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5120" y="1295280"/>
            <a:ext cx="12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4080" y="121932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209320" y="2286000"/>
            <a:ext cx="838440" cy="60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09680" y="20620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42900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8120" y="22096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048120" y="228600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294920" y="419112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8120" y="4191120"/>
            <a:ext cx="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905120" y="3200400"/>
            <a:ext cx="1143000" cy="190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3047760" y="3200400"/>
            <a:ext cx="1143000" cy="190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05320" y="3429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3720" y="3429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5560" y="2362320"/>
            <a:ext cx="76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38080" y="396252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080" y="5178600"/>
            <a:ext cx="85345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You are initially credited with the call and put premia  C + P  (at t=0) but if at expiry if there is either a large fall or a large rise in S (relative to the strike price K ) then you will make a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eg. Leeson’s short straddle : Kobe Earthquake which led to a fall in S = “Nikkei-225” and large losses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19520" y="42721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93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43000" y="685800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1240" y="2971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OF SLID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"/>
          <p:cNvSpPr/>
          <p:nvPr/>
        </p:nvSpPr>
        <p:spPr>
          <a:xfrm>
            <a:off x="99072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19320" y="6553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EA-C8DA-42A1-9F1F-1288C830D9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040" y="114120"/>
            <a:ext cx="701028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2214720" y="1371600"/>
          <a:ext cx="4695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1371600"/>
                    <a:ext cx="4695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6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6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7" name=""/>
          <p:cNvSpPr/>
          <p:nvPr/>
        </p:nvSpPr>
        <p:spPr>
          <a:xfrm>
            <a:off x="10666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143000" y="6553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9EB-39D6-487E-8616-538CE09BCD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93440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tions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990720" y="6094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39960" y="0"/>
            <a:ext cx="7518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D00-CF11-404C-B6A6-4F53B725D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444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F6B-A2D6-4B69-88B5-15606875F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838080"/>
            <a:ext cx="7696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ption gives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r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t not the obligation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 bu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sell) ‘something’ at  some time in the future, at a (strike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ce agreed 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is privilege you pay the option (price) premium to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e way they differ from futur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al is favourable to you then you will ‘take deliver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 if you do not want to go through with the deal (because it is not advantageous to you), then you can simply do nothing and  ‘walk awa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217-C9A2-445F-B2CF-114F68FA1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143676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omething’in the options contract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s of AT&amp;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ck index (S&amp;P5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-bo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ld/Silver (index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678-CA1D-488F-B4D4-29680B8CB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066680"/>
            <a:ext cx="761976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peculatio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provide leverage- only pay small option premium and ‘downside’ losses are lim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suranc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 can limit ‘downside’ outcome but allows most of the  ‘upside potential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ta Hedging - ensures that the value of your portfolio is unchanged (over say 1-week) - I.e. no ‘upside’ or ‘downside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rbitrag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ensures there are no (v. few) miss-priced options  (‘too advanced’ for this cour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080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C8B-26CB-42F6-9DA3-9BED2C811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066680"/>
            <a:ext cx="731520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options are combined with other options or other assets (e.g. stocks) then this is known a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inanci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uropean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only b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xercised at 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American O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can b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exercised at any tim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(eg. befo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tur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you can sell/bu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n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isting option to another person at any time (I.e. prior to expiration/matu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buy and later sell the option then ‘delivery’ (of the share) TO YOU is cancelled (by the Clearing House, CBO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9160" y="25416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32A-CE15-4136-A813-4CC228DE31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6094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l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ABE-6C7A-4286-9698-B2D1FD614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2T11:17:34Z</dcterms:created>
  <dc:creator>Dept. of Economics</dc:creator>
  <dc:description/>
  <dc:language>en-US</dc:language>
  <cp:lastModifiedBy>Keith Cuthbertson</cp:lastModifiedBy>
  <cp:lastPrinted>2001-09-25T15:15:17Z</cp:lastPrinted>
  <dcterms:modified xsi:type="dcterms:W3CDTF">2001-10-03T17:52:08Z</dcterms:modified>
  <cp:revision>130</cp:revision>
  <dc:subject/>
  <dc:title>FUTURES &amp; OPTIONS</dc:title>
</cp:coreProperties>
</file>